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039-D3F6-4AAF-BC0B-ECBCAF64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59A-C8EE-4F1B-84CB-974579E1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B6A-C613-42DE-9538-0E00485F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1AF-329B-494F-889C-C05C72B7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3765-00D6-40CC-A04A-DB2AED8B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1736-CFDA-40F4-B5F9-AFCCE57B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D7A1-1947-4DC4-9278-86229D82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9A1D-9934-4895-B663-511924C2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346B-C6C0-4331-90CC-A7E41467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3B95-8BF2-4014-BFFF-44884DC8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3A93-539A-4D09-A449-73C42EC6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EF1-056D-41CB-84C0-63C1C7F2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D64E-412C-4B3D-A58A-58F138DB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A84B-7D7E-45DD-B119-B64E05E2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228F-958A-40AE-92B9-FED497E5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6222-84FC-4572-9A75-33E531A6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059A-4397-4094-8D84-C1F520F0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6CD-3706-488C-818D-E6876970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B88-CB27-48CB-BEA8-443F5312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461-21EE-413C-8357-499B1178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A98-7615-42B9-9F87-5F536E83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FE0-33A4-4003-93EC-CBBDE1CB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471-AE07-4C69-8EB8-023A7771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98E-DD90-4837-929A-5F4B70DD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4D10-F507-4E3D-84AF-516196F1D9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E571-AB5C-4886-B633-648EA3612E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5ffff"/>
                </a:solidFill>
                <a:latin typeface="Tahoma"/>
              </a:rPr>
              <a:t>Розділ 1.</a:t>
            </a: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uk-UA" sz="3200" spc="-1" strike="noStrike">
                <a:solidFill>
                  <a:srgbClr val="66ccff"/>
                </a:solidFill>
                <a:latin typeface="Tahoma"/>
              </a:rPr>
              <a:t>1.4. Основні показники соціально-економічного розвитку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1700280"/>
          <a:ext cx="9109080" cy="5157720"/>
        </p:xfrm>
        <a:graphic>
          <a:graphicData uri="http://schemas.openxmlformats.org/drawingml/2006/table">
            <a:tbl>
              <a:tblPr/>
              <a:tblGrid>
                <a:gridCol w="3851280"/>
                <a:gridCol w="2089080"/>
                <a:gridCol w="1584360"/>
                <a:gridCol w="158436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йменування показ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97997"/>
                        </a:gs>
                        <a:gs pos="50000">
                          <a:srgbClr val="ccccff"/>
                        </a:gs>
                        <a:gs pos="100000">
                          <a:srgbClr val="79799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иниця вимі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282a3"/>
                        </a:gs>
                        <a:gs pos="50000">
                          <a:srgbClr val="ccccff"/>
                        </a:gs>
                        <a:gs pos="100000">
                          <a:srgbClr val="8282a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5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282a3"/>
                        </a:gs>
                        <a:gs pos="50000">
                          <a:srgbClr val="ccccff"/>
                        </a:gs>
                        <a:gs pos="100000">
                          <a:srgbClr val="8282a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6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282a3"/>
                        </a:gs>
                        <a:gs pos="50000">
                          <a:srgbClr val="ccccff"/>
                        </a:gs>
                        <a:gs pos="100000">
                          <a:srgbClr val="8282a3"/>
                        </a:gs>
                      </a:gsLst>
                      <a:lin ang="5400000"/>
                    </a:gra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Обсяг реалізованої промислової продукці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тис.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14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1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Виробництво продукції сільського господарства (у цінах 2010 ро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тис.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2938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3217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в т. ч.: рослинниц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тис.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2346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264610</a:t>
                      </a:r>
                      <a:r>
                        <a:rPr b="0" lang="ru-RU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тваринниц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тис.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591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57186</a:t>
                      </a:r>
                      <a:r>
                        <a:rPr b="0" lang="ru-RU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Обсяг капітальних інвестиц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тис.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354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587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Обсяг роздрібного товарооборо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тис.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255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292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Середньомісячна заробітна плата штатних працівників</a:t>
                      </a:r>
                      <a:r>
                        <a:rPr b="0" lang="ru-RU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32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39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Кількість наданих адміністративних по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18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26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2b5481"/>
              </a:gs>
              <a:gs pos="50000">
                <a:srgbClr val="ff66ff"/>
              </a:gs>
              <a:gs pos="100000">
                <a:srgbClr val="2b548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ahoma"/>
              </a:rPr>
              <a:t>М</a:t>
            </a:r>
            <a:r>
              <a:rPr b="0" lang="uk-UA" sz="4400" spc="-1" strike="noStrike">
                <a:solidFill>
                  <a:srgbClr val="00ffff"/>
                </a:solidFill>
                <a:latin typeface="Tahoma"/>
              </a:rPr>
              <a:t>іжміські маршру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2453" t="23590" r="7277" b="16790"/>
          <a:stretch/>
        </p:blipFill>
        <p:spPr>
          <a:xfrm>
            <a:off x="0" y="907920"/>
            <a:ext cx="914400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2b5481"/>
              </a:gs>
              <a:gs pos="50000">
                <a:srgbClr val="ff66ff"/>
              </a:gs>
              <a:gs pos="100000">
                <a:srgbClr val="2b548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ahoma"/>
              </a:rPr>
              <a:t>Приміські маршрут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38462" t="7351" r="0" b="2284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029360"/>
          </a:xfrm>
          <a:prstGeom prst="rect">
            <a:avLst/>
          </a:prstGeom>
          <a:gradFill rotWithShape="0">
            <a:gsLst>
              <a:gs pos="0">
                <a:srgbClr val="2b5481"/>
              </a:gs>
              <a:gs pos="50000">
                <a:srgbClr val="00ccff"/>
              </a:gs>
              <a:gs pos="100000">
                <a:srgbClr val="2b5481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00"/>
                </a:solidFill>
                <a:latin typeface="Tahoma"/>
              </a:rPr>
              <a:t>Автобусним сполученням охоплені 85% населених пунктів району. </a:t>
            </a:r>
            <a:br>
              <a:rPr sz="3000"/>
            </a:br>
            <a:r>
              <a:rPr b="0" lang="uk-UA" sz="3000" spc="-1" strike="noStrike">
                <a:solidFill>
                  <a:srgbClr val="ffff00"/>
                </a:solidFill>
                <a:latin typeface="Tahoma"/>
              </a:rPr>
              <a:t>На міжміських та приміських маршрутах працює </a:t>
            </a:r>
            <a:br>
              <a:rPr sz="3000"/>
            </a:br>
            <a:r>
              <a:rPr b="0" lang="uk-UA" sz="3000" spc="-1" strike="noStrike">
                <a:solidFill>
                  <a:srgbClr val="ffff00"/>
                </a:solidFill>
                <a:latin typeface="Tahoma"/>
              </a:rPr>
              <a:t>7 суб’єктів підприємницької діяльності: ТОВ «Талалаївське АТП-17450», ТОВ «Автотранс» </a:t>
            </a:r>
            <a:br>
              <a:rPr sz="3000"/>
            </a:br>
            <a:r>
              <a:rPr b="0" lang="uk-UA" sz="3000" spc="-1" strike="noStrike">
                <a:solidFill>
                  <a:srgbClr val="ffff00"/>
                </a:solidFill>
                <a:latin typeface="Tahoma"/>
              </a:rPr>
              <a:t>та 5 суб’єктів фізичних осіб, з них два перевізники зареєстровані за межами району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00"/>
                </a:solidFill>
                <a:latin typeface="Tahoma"/>
              </a:rPr>
              <a:t>Всього на міжміських маршрутах здійснюється </a:t>
            </a:r>
            <a:br>
              <a:rPr sz="3000"/>
            </a:br>
            <a:r>
              <a:rPr b="0" lang="uk-UA" sz="3000" spc="-1" strike="noStrike">
                <a:solidFill>
                  <a:srgbClr val="ffff00"/>
                </a:solidFill>
                <a:latin typeface="Tahoma"/>
              </a:rPr>
              <a:t>11 рейсів в 3 направленнях. Також працює 6 сільських маршруті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00"/>
                </a:solidFill>
                <a:latin typeface="Tahoma"/>
              </a:rPr>
              <a:t>Обсяг перевезення пасажирів автомобільним транспортом</a:t>
            </a: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 у 2016 році становив 183,0 тис. грн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uk-UA" sz="3000" spc="-1" strike="noStrike">
                <a:solidFill>
                  <a:srgbClr val="ffff00"/>
                </a:solidFill>
                <a:latin typeface="Tahoma"/>
              </a:rPr>
              <a:t>Обсяг перевезення вантажів автомобільним транспортом</a:t>
            </a: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 у 2016 році становив 6,8 тис. тонн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00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cc"/>
                </a:solidFill>
                <a:latin typeface="Tahoma"/>
              </a:rPr>
              <a:t>Розділ 1.</a:t>
            </a:r>
            <a:r>
              <a:rPr b="0" lang="uk-UA" sz="4000" spc="-1" strike="noStrike">
                <a:solidFill>
                  <a:srgbClr val="0099cc"/>
                </a:solidFill>
                <a:latin typeface="Tahoma"/>
              </a:rPr>
              <a:t> </a:t>
            </a:r>
            <a:br>
              <a:rPr sz="4000"/>
            </a:br>
            <a:r>
              <a:rPr b="1" lang="uk-UA" sz="3200" spc="-1" strike="noStrike">
                <a:solidFill>
                  <a:srgbClr val="0099cc"/>
                </a:solidFill>
                <a:latin typeface="Tahoma"/>
              </a:rPr>
              <a:t>1.7. Соціально-культурна сфера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060560"/>
          <a:ext cx="9144000" cy="5838840"/>
        </p:xfrm>
        <a:graphic>
          <a:graphicData uri="http://schemas.openxmlformats.org/drawingml/2006/table">
            <a:tbl>
              <a:tblPr/>
              <a:tblGrid>
                <a:gridCol w="4211640"/>
                <a:gridCol w="2521080"/>
                <a:gridCol w="2411280"/>
              </a:tblGrid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каз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иниці вимі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6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100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Забезпеченість населення соціальною інфраструктурою:</a:t>
                      </a:r>
                      <a:r>
                        <a:rPr b="0" lang="ru-RU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житлом на одного жителя</a:t>
                      </a: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кв.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28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лікарняними закладами на 10 тис. жителів</a:t>
                      </a: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ліж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76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амбулаторно-поліклінічними закладами на 1 мешканц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відвідувань за рі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5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лікарями на 10 тис. мешканців</a:t>
                      </a: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сі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16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хоплення дітей дошкільного віку (від трьох до шести (семи) років) всіма формами дошкільної освіти</a:t>
                      </a: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0"/>
          <a:ext cx="9144000" cy="6742080"/>
        </p:xfrm>
        <a:graphic>
          <a:graphicData uri="http://schemas.openxmlformats.org/drawingml/2006/table">
            <a:tbl>
              <a:tblPr/>
              <a:tblGrid>
                <a:gridCol w="4211640"/>
                <a:gridCol w="2521080"/>
                <a:gridCol w="2411280"/>
              </a:tblGrid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хоплення дітей позашкільною освітою (у % до кількості дітей шкільного віку)</a:t>
                      </a: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Кількість загальноосвітніх навчальних закладі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з них: у сільській місцевості</a:t>
                      </a: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у т.ч. малокомплектних</a:t>
                      </a: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Кількість будинків культури різних форм підпорядкуванн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з них: у сільській місцевості</a:t>
                      </a: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Кількість масових бібліотек різних форм підпорядкуванн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7c80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Пам’ятки археології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хеологічні пам`ятки: в с. Липове - поселення, городище і курганний могильник періоду Київської Русі (ІХ-ХІІІ ст.), один з найбільших в Україні та на території колишньої Київської Русі. На території села Красний Колядин виявлено городище І тисячоліття до н. е., VIII-ХІІІ ст., ХVI-ХVIІ ст., можливо - залишки літописного міста Глібль (Глебель), уперше згаданого під 1147 р. і 1159 р. Біля с. Грицівка - городище з поселенням ІІ-І тисячоліття до н. е., ХІ-ХІІІ ст. Біля сіл Грицівка, Корінецьке, Красний Колядин, Липове, Харкове є кургани ІІ-І тисячоліття до н. 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м`ятки архітектури на території району: дерев`яна Успенська церква в с. Стара Талалаївка (ХІХ - поч. ХХ ст., майстер Бузовський), мурована (цегляна) Михайлівська церква в с. Юрківці (ХІХ ст.), приміщення дерев`яної (не діючої) церкви в с. Слобідка (ХІХ ст.), залишки дерев`яної церкви у с. Березів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Також на території району діють дві новозбудовані церкв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Свято-Преображенська церква в с. Липове (2006 рік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Церква Святої Великомучениці Варвари в смт Талалаївка (2011 рік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7c80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Пам’ятки архітектур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5ffff"/>
                </a:solidFill>
                <a:latin typeface="Tahoma"/>
              </a:rPr>
              <a:t>Розділ 1.</a:t>
            </a: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uk-UA" sz="3200" spc="-1" strike="noStrike">
                <a:solidFill>
                  <a:srgbClr val="66ccff"/>
                </a:solidFill>
                <a:latin typeface="Tahoma"/>
              </a:rPr>
              <a:t>1.4. Економічний потенціал</a:t>
            </a:r>
            <a:br>
              <a:rPr sz="3200"/>
            </a:br>
            <a:r>
              <a:rPr b="1" lang="uk-UA" sz="3200" spc="-1" strike="noStrike">
                <a:solidFill>
                  <a:srgbClr val="ff9900"/>
                </a:solidFill>
                <a:latin typeface="Tahoma"/>
              </a:rPr>
              <a:t>Агропромисловий комплек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1087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prstDash val="lgDashDot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ahoma"/>
              </a:rPr>
              <a:t>Спеціалізація району:</a:t>
            </a:r>
            <a:r>
              <a:rPr b="0" lang="uk-UA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uk-UA" sz="1800" spc="-1" strike="noStrike">
                <a:solidFill>
                  <a:srgbClr val="ffff00"/>
                </a:solidFill>
                <a:latin typeface="Tahoma"/>
              </a:rPr>
              <a:t>вирощування зернових культур, розведення молочно-м’ясного скотар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ff00"/>
                </a:solidFill>
                <a:latin typeface="Tahoma"/>
              </a:rPr>
              <a:t>Організаційна структура і землекористува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8360" y="2997360"/>
          <a:ext cx="8209080" cy="3776400"/>
        </p:xfrm>
        <a:graphic>
          <a:graphicData uri="http://schemas.openxmlformats.org/drawingml/2006/table">
            <a:tbl>
              <a:tblPr/>
              <a:tblGrid>
                <a:gridCol w="3672000"/>
                <a:gridCol w="3025440"/>
                <a:gridCol w="1511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Показ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Одиниці вимі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2016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Сільгосппідприєм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Фермерські господар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</a:tr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Площа землі у с/г підприємств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с/г угідь</a:t>
                      </a: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тис. 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3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рілл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3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Площа землі у фермерських господарств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с/г угід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тис. 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рілл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6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 Талалаївським районом пов'язані імена багатьох відомих людей: актриси    Г. Затиркевич-Карпінської, революціонера-народника Я.Стефановича, скульптора, художника, кіномитця І.Кавалерідз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ло Ярошівка (нині Українське) - батьківщина мистецтвознавця, етнографа, дослідника української культури В. Горленка. У с. Липове народився декабрист, учасник подій на Сенатській площі Санкт-Петербурга О. Якубович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с. Березівці - композитор М. Коляда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7c80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Славетні ім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0455d"/>
              </a:gs>
              <a:gs pos="50000">
                <a:srgbClr val="0099cc"/>
              </a:gs>
              <a:gs pos="100000">
                <a:srgbClr val="00455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ffff"/>
                </a:solidFill>
                <a:latin typeface="Tahoma"/>
              </a:rPr>
              <a:t>Розділ 1.</a:t>
            </a:r>
            <a:r>
              <a:rPr b="0" lang="uk-UA" sz="4000" spc="-1" strike="noStrike">
                <a:solidFill>
                  <a:srgbClr val="66ffff"/>
                </a:solidFill>
                <a:latin typeface="Tahoma"/>
              </a:rPr>
              <a:t> </a:t>
            </a:r>
            <a:br>
              <a:rPr sz="4000"/>
            </a:br>
            <a:r>
              <a:rPr b="1" lang="uk-UA" sz="3200" spc="-1" strike="noStrike">
                <a:solidFill>
                  <a:srgbClr val="66ffff"/>
                </a:solidFill>
                <a:latin typeface="Tahoma"/>
              </a:rPr>
              <a:t>1.8. Історія успіху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9054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cccc00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39966"/>
                </a:solidFill>
                <a:latin typeface="Tahoma"/>
              </a:rPr>
              <a:t>На території Талалаївського району працюють нафтовики різних структурних підрозділів ПАТ “Укрнафта”: цех з видобутку нафти й газу; дільниця цеху ПІКРС; колона №5 цеху технологічного транспорту; дільниці цехів ПРЦЄЗУ, КВПіА, ПРЦ, ЄО і ЄП, ЦНДВР та дільниця зв’язк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39966"/>
                </a:solidFill>
                <a:latin typeface="Tahoma"/>
              </a:rPr>
              <a:t>Нафтогазовидобуток  на Талалаївщині ведеться з 1972 року, після того, як 1971 року була пробурена перша продуктивна свердловина біля с.Стара Талалаївка (колишня Талалаївка). Тільки діючих свердловин по видобутку нафти й газу в районі близько 100 одиниць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44280"/>
            <a:ext cx="9144000" cy="6858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cccc00"/>
              </a:gs>
              <a:gs pos="100000">
                <a:srgbClr val="33cc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39966"/>
                </a:solidFill>
                <a:latin typeface="Tahoma"/>
              </a:rPr>
              <a:t>В нафтовидобувній галузі зайнято близько 7% від чисельності зайнятого населення район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9966"/>
                </a:solidFill>
                <a:latin typeface="Tahoma"/>
              </a:rPr>
              <a:t>Окрім видобутку нафти та перекачування її до Гнідинцівського переробного заводу, в цеху займаються транспортуванням природного газу для потреб Талалаївського, Ічнянського та Срібнянського районів. Для цього діють 4 газорозподільчих станції. Видобуток Талалаївського цеху нафти та газу становить близько 40% від загального видобутку нафти НГВУ “Чернігівнафтогаз”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50000">
                <a:srgbClr val="cc66ff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5ffff"/>
                </a:solidFill>
                <a:latin typeface="Tahoma"/>
              </a:rPr>
              <a:t>Сільськогосподарські підприємств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585720"/>
          <a:ext cx="9180360" cy="6272280"/>
        </p:xfrm>
        <a:graphic>
          <a:graphicData uri="http://schemas.openxmlformats.org/drawingml/2006/table">
            <a:tbl>
              <a:tblPr/>
              <a:tblGrid>
                <a:gridCol w="644400"/>
                <a:gridCol w="2703600"/>
                <a:gridCol w="3373560"/>
                <a:gridCol w="2458800"/>
              </a:tblGrid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b5481"/>
                        </a:gs>
                        <a:gs pos="50000">
                          <a:srgbClr val="9999ff"/>
                        </a:gs>
                        <a:gs pos="100000">
                          <a:srgbClr val="2b548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 підприєм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b5481"/>
                        </a:gs>
                        <a:gs pos="50000">
                          <a:srgbClr val="9999ff"/>
                        </a:gs>
                        <a:gs pos="100000">
                          <a:srgbClr val="2b548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і види діяльност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b5481"/>
                        </a:gs>
                        <a:gs pos="50000">
                          <a:srgbClr val="9999ff"/>
                        </a:gs>
                        <a:gs pos="100000">
                          <a:srgbClr val="2b548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сяг виробництва валової продукції у 2016 роц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с.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b5481"/>
                        </a:gs>
                        <a:gs pos="50000">
                          <a:srgbClr val="9999ff"/>
                        </a:gs>
                        <a:gs pos="100000">
                          <a:srgbClr val="2b5481"/>
                        </a:gs>
                      </a:gsLst>
                      <a:lin ang="5400000"/>
                    </a:gra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В “Горизонт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, м’яса ВРХ, мол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9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В “Батьківщина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1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СП “Лан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7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“Зоря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1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“Агромат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культур, м’яса ВРХ, мол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“Україна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3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“Понори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, м’яса ВРХ, мол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9109080" cy="6248520"/>
        </p:xfrm>
        <a:graphic>
          <a:graphicData uri="http://schemas.openxmlformats.org/drawingml/2006/table">
            <a:tbl>
              <a:tblPr/>
              <a:tblGrid>
                <a:gridCol w="611280"/>
                <a:gridCol w="2736720"/>
                <a:gridCol w="3384720"/>
                <a:gridCol w="237636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“Агрофірма Сильченкове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7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АФ “Обрій”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T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технічних культур, м’яса ВРХ, мол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90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“Красноколядинське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техніч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1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СП “Відродження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техніч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“Дружба Нова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8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СП “Фортуна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1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СП “Обрій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7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“Лисогір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2b5481"/>
              </a:gs>
              <a:gs pos="50000">
                <a:srgbClr val="009999"/>
              </a:gs>
              <a:gs pos="100000">
                <a:srgbClr val="2b548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5ffff"/>
                </a:solidFill>
                <a:latin typeface="Tahoma"/>
              </a:rPr>
              <a:t>Промислові підприємств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4920" y="981000"/>
          <a:ext cx="9074160" cy="582768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1441440"/>
                <a:gridCol w="1511640"/>
                <a:gridCol w="1512720"/>
              </a:tblGrid>
              <a:tr h="1922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Назва п</a:t>
                      </a:r>
                      <a:r>
                        <a:rPr b="1" lang="uk-UA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ідприєм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Адреса, керів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Вид діяльност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Обсяг реалізації промислової продукції у відпускних цінах підприєм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2015 рі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тис. гр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2016 рі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тис. гр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</a:tr>
              <a:tr h="28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П “Талалаївська районна друкарня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мт Талалаївка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вул. Центральна, 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ел. (234) 2-13-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итух Леонід Володимирови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бланкова продукці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40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(116,7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46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(103,8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Сфера підприємництва </a:t>
            </a:r>
            <a:br>
              <a:rPr sz="4000"/>
            </a:b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у 2017 році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981080"/>
          <a:ext cx="8229600" cy="4800600"/>
        </p:xfrm>
        <a:graphic>
          <a:graphicData uri="http://schemas.openxmlformats.org/drawingml/2006/table">
            <a:tbl>
              <a:tblPr/>
              <a:tblGrid>
                <a:gridCol w="5483160"/>
                <a:gridCol w="27464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Кількість суб'єктів малого і середнього підприємництва, одиниць: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ідприємств, в т.ч.: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ередніх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малих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з них мікро-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фізичних осіб - підприємців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93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66ff99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6699"/>
                </a:solidFill>
                <a:latin typeface="Tahoma"/>
              </a:rPr>
              <a:t>Розділ 1.</a:t>
            </a:r>
            <a:r>
              <a:rPr b="0" lang="uk-UA" sz="4000" spc="-1" strike="noStrike">
                <a:solidFill>
                  <a:srgbClr val="336699"/>
                </a:solidFill>
                <a:latin typeface="Tahoma"/>
              </a:rPr>
              <a:t> </a:t>
            </a:r>
            <a:br>
              <a:rPr sz="4000"/>
            </a:br>
            <a:r>
              <a:rPr b="1" lang="uk-UA" sz="3200" spc="-1" strike="noStrike">
                <a:solidFill>
                  <a:srgbClr val="336699"/>
                </a:solidFill>
                <a:latin typeface="Tahoma"/>
              </a:rPr>
              <a:t>1.4. Транспортна інфраструктура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gradFill rotWithShape="0">
            <a:gsLst>
              <a:gs pos="0">
                <a:srgbClr val="2b5481"/>
              </a:gs>
              <a:gs pos="50000">
                <a:srgbClr val="33cccc"/>
              </a:gs>
              <a:gs pos="100000">
                <a:srgbClr val="2b548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ff33"/>
                </a:solidFill>
                <a:latin typeface="Tahoma"/>
              </a:rPr>
              <a:t>Районний центр – смт Талалаївка простягається на 50 км Південної залізниці на ділянці Бахмач – Ромни та знаходиться за 15 км від шляху державного значення Київ - Суми - Юнаківка. Відстань до обласного центру залізницею – 207 км, шосейними шляхами – 265 км, до м. Суми – 180 км та до м. Київ – 215 к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ff33"/>
                </a:solidFill>
                <a:latin typeface="Tahoma"/>
              </a:rPr>
              <a:t>На території району дві залізничні станції: „Талалаївка” і „Болотниця” Південної залізниці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ff33"/>
                </a:solidFill>
                <a:latin typeface="Tahoma"/>
              </a:rPr>
              <a:t>Автомобільних шляхів – 173,1 кілометра, у тому числі з твердим покриттям – 150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0T09:47:53Z</dcterms:created>
  <dc:creator>RDA12</dc:creator>
  <dc:description/>
  <dc:language>en-US</dc:language>
  <cp:lastModifiedBy>RDA12</cp:lastModifiedBy>
  <dcterms:modified xsi:type="dcterms:W3CDTF">2017-12-20T09:34:39Z</dcterms:modified>
  <cp:revision>335</cp:revision>
  <dc:subject/>
  <dc:title>Інвестиційний паспорт Талалаївського району Чернігівської області</dc:title>
</cp:coreProperties>
</file>