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2C0-5FA1-467F-808D-ACC7EBE7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08F-D7F4-4FE7-BBE1-490EC476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CA0-B1B9-417C-88A4-2DA8EB9B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96D-B619-4AC9-9C3B-13D2E5AB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CBA-36FD-42F6-AD93-FABF5C5E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517-FC54-4E6D-927B-50F16636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670-D4E9-4857-ABC9-F5D15B98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1EA-21FA-4805-8F36-F6760F61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2A8-7532-4268-9A31-A34CD7B7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09D-5045-488A-843D-930462D1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D61-B73B-44F0-9A00-F468E20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D91-F719-46E1-B2D8-DBE35CF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C84E-D5DD-4414-A47C-797379B541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E872-CAE2-4E9A-8060-A5E1DA00D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76092"/>
                </a:solidFill>
                <a:latin typeface="Calibri"/>
              </a:rPr>
              <a:t>ДЕЦЕНТРАЛІЗАЦІЙНА </a:t>
            </a:r>
            <a:br>
              <a:rPr sz="4400"/>
            </a:br>
            <a:r>
              <a:rPr b="1" lang="uk-UA" sz="4400" spc="-1" strike="noStrike">
                <a:solidFill>
                  <a:srgbClr val="376092"/>
                </a:solidFill>
                <a:latin typeface="Calibri"/>
              </a:rPr>
              <a:t>РЕФОРМА В УКРАЇН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084640"/>
            <a:ext cx="6945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28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 квітня 2015 ро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Мирослав П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ітци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виконавчий директор Асоціації міст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0A69-4303-4CA1-80D2-4941DA9EB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ОВНОВАЖЕННЯ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Власн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ланування розвитку, залучення інвестицій розвиток підприємниц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Управління земельними ресурс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Розвиток міської інфраструктури: утримання та будівництво доріг, благоустрі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дання житлово-комунальних послуг (водо-, тепло-, газопостачання, водовідведення, управління відход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Організація роботи громадського тран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Громадська безп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ожежна охор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40DB-A556-4EB0-BE9D-F22B971C31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ОВНОВАЖЕННЯ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58560" y="2060280"/>
            <a:ext cx="75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Делегован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Соціальна допом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дання адміністративних посл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Дошкільна та середня осві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ервинна медична допом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ультура та спо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Послуги підрозділів державних органів в громада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Виплата пенсій, субсидій, піль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онтроль санітарного та епізоотичного ста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азначейське обслугов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Реєстрація актів цивільного ста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DAF0-35F6-41AF-8EB4-B50F3FCEE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РЕСУРСИ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560" y="2060280"/>
            <a:ext cx="75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Податки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60% ПДФ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25% екологічного подат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100% єдиного подат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100% податку на прибуток підприємств комунальної власност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100% податку на майно (нерухомість, земля, транспор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0EBC-0791-4CAE-BFAA-68FB23A2B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РЕСУРСИ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560" y="2060280"/>
            <a:ext cx="75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Збори та платеж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Державне ми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лата за надання адмінпосл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Збір за парк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Туристичний збі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Орендна плата за користування майном у комунальній власност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Рентні плати за користування над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50% грошових стягнень за шкоду довкіл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75% коштів від відшкодування втрат сільськогосподарського і лісогосподарського виробниц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Ін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0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19D2-2AFF-4072-A1D7-7B6B130EF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РЕСУРСИ НОВ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2060280"/>
            <a:ext cx="75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Інші дохо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Різноманітні трансферти (базова дотація, освітня і медична субвенції, капітальні трансфер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Цільові та добровільні внески установ до місцевих фондів охорони довкіл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дходження в рамках програм МТ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ошти пайової участі у розвитку інфраструк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ошти від відчуження комунального май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ошти від реалізації безхазяйного май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Місцеві запозиче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Ін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1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375F-B90D-4904-8A86-CB301928F8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o_paziak\Desktop\Громада2015.jpg"/>
          <p:cNvPicPr/>
          <p:nvPr/>
        </p:nvPicPr>
        <p:blipFill>
          <a:blip r:embed="rId1"/>
          <a:srcRect l="0" t="0" r="0" b="7838"/>
          <a:stretch/>
        </p:blipFill>
        <p:spPr>
          <a:xfrm>
            <a:off x="971640" y="981000"/>
            <a:ext cx="7435800" cy="5676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3480" y="9075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Arsenal"/>
              </a:rPr>
              <a:t>ДЕЦЕНТРАЛІЗАЦІЯ: УКРАЇНА </a:t>
            </a:r>
            <a:r>
              <a:rPr b="1" lang="en-US" sz="2200" spc="-1" strike="noStrike">
                <a:solidFill>
                  <a:srgbClr val="376092"/>
                </a:solidFill>
                <a:latin typeface="Arsenal"/>
              </a:rPr>
              <a:t>1405 </a:t>
            </a:r>
            <a:r>
              <a:rPr b="1" lang="uk-UA" sz="2200" spc="-1" strike="noStrike">
                <a:solidFill>
                  <a:srgbClr val="376092"/>
                </a:solidFill>
                <a:latin typeface="Arsenal"/>
              </a:rPr>
              <a:t>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D:\Work\Логотип Реформи\Логотип Реформи.jpg"/>
          <p:cNvPicPr/>
          <p:nvPr/>
        </p:nvPicPr>
        <p:blipFill>
          <a:blip r:embed="rId2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:\Work\Лого АМУ\Новий герб АМУ\Логотип АМУ_довгий.jpg"/>
          <p:cNvPicPr/>
          <p:nvPr/>
        </p:nvPicPr>
        <p:blipFill>
          <a:blip r:embed="rId3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5568-1BCF-4DDC-98BA-5745F1AA3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76092"/>
                </a:solidFill>
                <a:latin typeface="Calibri"/>
              </a:rPr>
              <a:t>ДЯКУЮ ЗА УВАГ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2697-D821-4198-BAA1-C22931188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ЕРЕДУМОВИ РЕФОР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8920" y="220500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В Україні 11 522 громад, з них 10 279 сільські громади (близько 70% з них мають населення менше 2 тисяч осі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лише близько 180 громад повною мірою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спроможні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 виконувати повноваження місцевого самоврядування (за статусом – міста обласного значенн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в решті громад повноваження місцевого самоврядування – через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неспроможність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 – виконують органи державної влади (районні державні адміністрації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Як результат: обрана місцева влада позбавлена впливу на процес прийняття рішень, проігноровано принцип субсидіарності, послуги віддалені від громадян та низької якост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3D1F-B672-490A-A22B-1A387C440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ЧОМУ ПОТРІБНА РЕФОР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915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Наблизити послуги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до громадянина та підвищити їх які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Створити повноцінну систему місцевого самоврядування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, де громади будуть спроможні виконувати покладені на них повноваження та відповідати за їх викон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міцнити» громади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, щоб їх об’єднані ресурси (фінансові, майнові, інтелектуальні) можна було використати для підвищення якості послуг та розвитку місцевої інфраструк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Позбавитись зазіхань РФ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 створення «великої» імперії за участі Україні, адже децентралізовану країну не можливо інтегрувати в тоталітарну та складно федералізува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Отримати міжнародну фінансову допомогу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(лише 2015 році для збалансування бюджету держави потрібно близько 300 млрд. гр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F2B-64EF-42C2-9D1A-203399341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РАВОВЕ ПО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до Бюджетного та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Податкових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кодексів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що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абезпечить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фінансову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спроможність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грома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акон України «Про </a:t>
            </a: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добровільне</a:t>
            </a: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 об’єднання територіальних громад» - основний документ, що дозволяє провести укрупнення громад </a:t>
            </a: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без внесення змін до Конституції Украї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 до Конституції потрібні для запровадження повноцінного самоврядування на регіональному рівні – створення виконавчих комітетів районних та обласних рад, чиї функції зараз виконують районні та обласні державні адміністраці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Потребують прийнятт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 до земельного законодавства, що забезпечить повсюдність місцевого самоврядув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 до законодавства про місцеві вибо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міни до законодавства про адміністративно-територіальний устрі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Закон про адміністративні послу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883-2B6A-4AAF-B1D3-6E98A7B33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СТИМУЛИ ДЛЯ ОБ’ЄДН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9280" y="2204640"/>
            <a:ext cx="885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Об’єднання = укрупнення = об’єднання ресурсів та можливостей об’єднаних гром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але у разі об’єднання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 за перспективним пла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ова громада одержує додаткові фінансові та майнові ресурси. Основні з ни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60% ПДФО (зараз 0) на власні повноваження</a:t>
            </a: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376092"/>
                </a:solidFill>
                <a:latin typeface="Calibri"/>
              </a:rPr>
              <a:t>та прям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і відносини з держбюдж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Державні субвенції (медична, освітн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раво розпоряджатися землями на території об’єднаної гром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B995-514A-4F6F-B217-482F8BAF8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АЛГОРИТМ ДІ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79280" y="191592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sen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senal"/>
              </a:rPr>
              <a:t>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Уряд приймає постанову, якою затверджує методику формування спроможних територіальних громад (очікуємо на початку березн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 підставі методики ОДА розробляють проект перспективного плану формування територіальних громад області (спільно: ОДА, облрада, районні ДА, районні ради, міські, селищні, сільські рад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Обласна рада схвалює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ерспективний пла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Уряд затверджує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ерспективний план. Громади об’єднані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</a:rPr>
              <a:t>Верховна Рада України законом затверджує </a:t>
            </a: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овий адміністративно-територіальний устрій держа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Щоб провести місцеві вибори 25 жовтня на новій територіальній основі, процес формування нових спроможних громад має завершитися до 5 вересня 2015 ро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C065-DF4B-46D0-AD71-BB2CCA6B3A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ПЕРСПЕКТИВНИЙ ПЛ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9280" y="1988640"/>
            <a:ext cx="8856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Графічна частина (мапа з межами нових територіальних грома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Опис кожної грома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зва та адміністративний 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Кількість населення станом на 1 січня 2015 року (в тому числі дітей від 6 до 17 рокі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Площу гром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Інформацію про населені пункти, що входять до гром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явність та характеристики бюджетних установ, які мають утримуватись за рахунок бюджету новоствореної гром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76092"/>
                </a:solidFill>
                <a:latin typeface="Calibri"/>
              </a:rPr>
              <a:t>Наявність адміністративних будівель для розміщення органів виконавчої влади та органів місцевого самовряд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D:\Work\Логотип Реформи\Логотип Реформи.jpg"/>
          <p:cNvPicPr/>
          <p:nvPr/>
        </p:nvPicPr>
        <p:blipFill>
          <a:blip r:embed="rId1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D:\Work\Лого АМУ\Новий герб АМУ\Логотип АМУ_довгий.jpg"/>
          <p:cNvPicPr/>
          <p:nvPr/>
        </p:nvPicPr>
        <p:blipFill>
          <a:blip r:embed="rId2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7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A1A4-8F67-4BC2-820A-C2FBC0E9B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НОВІ ГРОМАДИ</a:t>
            </a:r>
            <a:br>
              <a:rPr sz="2200"/>
            </a:b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ВАРІАНТ 1: ГРОМАДА – РАЙ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C:\Users\o_paziak\Desktop\INFO\Ter\Lena1.jpg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D:\Work\Логотип Реформи\Логотип Реформи.jpg"/>
          <p:cNvPicPr/>
          <p:nvPr/>
        </p:nvPicPr>
        <p:blipFill>
          <a:blip r:embed="rId2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:\Work\Лого АМУ\Новий герб АМУ\Логотип АМУ_довгий.jpg"/>
          <p:cNvPicPr/>
          <p:nvPr/>
        </p:nvPicPr>
        <p:blipFill>
          <a:blip r:embed="rId3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306B-59AD-4266-9312-7B45BAC58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76092"/>
                </a:solidFill>
                <a:latin typeface="Calibri"/>
              </a:rPr>
              <a:t>ДЕЦЕНТРАЛІЗАЦІЯ: НОВІ ГРОМАДИ</a:t>
            </a:r>
            <a:br>
              <a:rPr sz="2200"/>
            </a:b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ВАРІАНТ 2: ОБ</a:t>
            </a: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’</a:t>
            </a:r>
            <a:r>
              <a:rPr b="1" lang="uk-UA" sz="1800" spc="-1" strike="noStrike">
                <a:solidFill>
                  <a:srgbClr val="376092"/>
                </a:solidFill>
                <a:latin typeface="Calibri"/>
              </a:rPr>
              <a:t>ЄДНАННЯ НАВКОЛО ЦЕНТРІВ РОС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C:\Users\o_paziak\Desktop\INFO\Ter\Lena2.jpg"/>
          <p:cNvPicPr/>
          <p:nvPr/>
        </p:nvPicPr>
        <p:blipFill>
          <a:blip r:embed="rId1"/>
          <a:srcRect l="13377" t="31517" r="0" b="32119"/>
          <a:stretch/>
        </p:blipFill>
        <p:spPr>
          <a:xfrm>
            <a:off x="539640" y="1913040"/>
            <a:ext cx="7920000" cy="470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:\Work\Логотип Реформи\Логотип Реформи.jpg"/>
          <p:cNvPicPr/>
          <p:nvPr/>
        </p:nvPicPr>
        <p:blipFill>
          <a:blip r:embed="rId2"/>
          <a:stretch/>
        </p:blipFill>
        <p:spPr>
          <a:xfrm>
            <a:off x="7667640" y="115920"/>
            <a:ext cx="1309680" cy="138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D:\Work\Лого АМУ\Новий герб АМУ\Логотип АМУ_довгий.jpg"/>
          <p:cNvPicPr/>
          <p:nvPr/>
        </p:nvPicPr>
        <p:blipFill>
          <a:blip r:embed="rId3"/>
          <a:stretch/>
        </p:blipFill>
        <p:spPr>
          <a:xfrm>
            <a:off x="314280" y="115920"/>
            <a:ext cx="2449440" cy="66816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A775-D842-4E25-BA16-8125C936F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зяк Ольга Іванівна</dc:creator>
  <dc:description/>
  <dc:language>en-US</dc:language>
  <cp:lastModifiedBy>user</cp:lastModifiedBy>
  <dcterms:modified xsi:type="dcterms:W3CDTF">2015-05-05T06:36:35Z</dcterms:modified>
  <cp:revision>112</cp:revision>
  <dc:subject/>
  <dc:title>Стан виконання місцевих бюджетів у 2014 році та пропозиції Асоціації міст України щодо бюджетної децентралізації на 2015 рік</dc:title>
</cp:coreProperties>
</file>