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057-F051-4E5A-9D07-3E6401F2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628-9231-4A55-96F2-3F4254B9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6A2-0959-45EE-BA0B-E5779AC3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886-1CCD-4C2E-B3E8-C86E4067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D5C-3330-4621-9DAB-55146071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D3F-FFB1-460E-988E-E7815E1A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46B-FE94-46F3-953F-FCCF4F62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3ED-51DC-4D4C-A131-EBE8FA63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4B8-9B0E-4311-B15A-08848F1D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C1F-8C1B-49C3-8E18-D7BB88CD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58D-6FCB-442C-AF0A-B36B3FC9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FB0-D551-4936-A381-DBC9B459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22CA-4270-45FF-BC62-30530CF326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EFDA-4728-434D-9816-5445778FF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A94D-3901-40A9-B1D5-1818D1C6D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ДЕЦЕНТРАЛІЗАЦІЯ ВЛАДИ,</a:t>
            </a:r>
            <a:br>
              <a:rPr sz="3600"/>
            </a:br>
            <a:r>
              <a:rPr b="1" i="1" lang="ru-RU" sz="2500" spc="-1" strike="noStrike">
                <a:solidFill>
                  <a:srgbClr val="002060"/>
                </a:solidFill>
                <a:latin typeface="Georgia"/>
              </a:rPr>
              <a:t>ЯК ЇЇ БАЧАТЬ ГРОМАДЯНИ</a:t>
            </a:r>
            <a:br>
              <a:rPr sz="2500"/>
            </a:br>
            <a:r>
              <a:rPr b="1" i="1" lang="ru-RU" sz="2500" spc="-1" strike="noStrike">
                <a:solidFill>
                  <a:srgbClr val="002060"/>
                </a:solidFill>
                <a:latin typeface="Georgia"/>
              </a:rPr>
              <a:t>ТА СЛУЖБОВЦІ ОРГАНІВ МІСЦЕВОГО САМОВРЯДУВАНН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2E7C-BFB2-4837-B540-65722DAF6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531720" y="2349360"/>
            <a:ext cx="8209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84" name="Диаграмма 8" descr=""/>
          <p:cNvPicPr/>
          <p:nvPr/>
        </p:nvPicPr>
        <p:blipFill>
          <a:blip r:embed="rId3"/>
          <a:stretch/>
        </p:blipFill>
        <p:spPr>
          <a:xfrm>
            <a:off x="676440" y="2273400"/>
            <a:ext cx="3755880" cy="4273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928080" y="1125720"/>
            <a:ext cx="73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Verdana"/>
              </a:rPr>
              <a:t>Оцінка доцільності розширення повноважень О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Диаграмма 7" descr=""/>
          <p:cNvPicPr/>
          <p:nvPr/>
        </p:nvPicPr>
        <p:blipFill>
          <a:blip r:embed="rId4"/>
          <a:stretch/>
        </p:blipFill>
        <p:spPr>
          <a:xfrm>
            <a:off x="4352760" y="2273400"/>
            <a:ext cx="4437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A38D-FCF8-4A40-AF40-8E4DB534C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6" descr=""/>
          <p:cNvPicPr/>
          <p:nvPr/>
        </p:nvPicPr>
        <p:blipFill>
          <a:blip r:embed="rId3"/>
          <a:stretch/>
        </p:blipFill>
        <p:spPr>
          <a:xfrm>
            <a:off x="603360" y="1841400"/>
            <a:ext cx="4047840" cy="4687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573480" y="1054080"/>
            <a:ext cx="79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Verdana"/>
              </a:rPr>
              <a:t>Обізнаність з ініціативами щодо децентраліз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Диаграмма 7" descr=""/>
          <p:cNvPicPr/>
          <p:nvPr/>
        </p:nvPicPr>
        <p:blipFill>
          <a:blip r:embed="rId4"/>
          <a:stretch/>
        </p:blipFill>
        <p:spPr>
          <a:xfrm>
            <a:off x="4780080" y="1841400"/>
            <a:ext cx="368748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079C-B2C0-4582-B40E-A4CAE6361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304920" y="1053720"/>
            <a:ext cx="88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Verdana"/>
              </a:rPr>
              <a:t>Спроможність ОМС справитися з більшими повноваженн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6" descr=""/>
          <p:cNvPicPr/>
          <p:nvPr/>
        </p:nvPicPr>
        <p:blipFill>
          <a:blip r:embed="rId3"/>
          <a:stretch/>
        </p:blipFill>
        <p:spPr>
          <a:xfrm>
            <a:off x="4638600" y="1841400"/>
            <a:ext cx="4114800" cy="4687920"/>
          </a:xfrm>
          <a:prstGeom prst="rect">
            <a:avLst/>
          </a:prstGeom>
          <a:ln w="0">
            <a:noFill/>
          </a:ln>
        </p:spPr>
      </p:pic>
      <p:pic>
        <p:nvPicPr>
          <p:cNvPr id="98" name="Диаграмма 8" descr=""/>
          <p:cNvPicPr/>
          <p:nvPr/>
        </p:nvPicPr>
        <p:blipFill>
          <a:blip r:embed="rId4"/>
          <a:stretch/>
        </p:blipFill>
        <p:spPr>
          <a:xfrm>
            <a:off x="390600" y="1768320"/>
            <a:ext cx="411480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4FF-CCFD-49C3-BDB4-97C9C483FE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01" name="Диаграмма 3" descr=""/>
          <p:cNvPicPr/>
          <p:nvPr/>
        </p:nvPicPr>
        <p:blipFill>
          <a:blip r:embed="rId2"/>
          <a:stretch/>
        </p:blipFill>
        <p:spPr>
          <a:xfrm>
            <a:off x="390600" y="2054160"/>
            <a:ext cx="3973320" cy="41878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139760" y="1197720"/>
            <a:ext cx="67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Verdana"/>
              </a:rPr>
              <a:t>Ставлення до бюджетної децентраліз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Диаграмма 5" descr=""/>
          <p:cNvPicPr/>
          <p:nvPr/>
        </p:nvPicPr>
        <p:blipFill>
          <a:blip r:embed="rId3"/>
          <a:stretch/>
        </p:blipFill>
        <p:spPr>
          <a:xfrm>
            <a:off x="4492800" y="2054160"/>
            <a:ext cx="43336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5B2E-7A4C-48A7-A154-4DA231397B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07" name="Диаграмма 7" descr=""/>
          <p:cNvPicPr/>
          <p:nvPr/>
        </p:nvPicPr>
        <p:blipFill>
          <a:blip r:embed="rId3"/>
          <a:stretch/>
        </p:blipFill>
        <p:spPr>
          <a:xfrm>
            <a:off x="463680" y="1047600"/>
            <a:ext cx="81439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4CE0-2014-434A-9EFF-118CC998EF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11" name="Диаграмма 5" descr=""/>
          <p:cNvPicPr/>
          <p:nvPr/>
        </p:nvPicPr>
        <p:blipFill>
          <a:blip r:embed="rId3"/>
          <a:stretch/>
        </p:blipFill>
        <p:spPr>
          <a:xfrm>
            <a:off x="317520" y="1262160"/>
            <a:ext cx="84358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FE53-129C-40C1-AEFF-6633F13D9F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15" name="Диаграмма 7" descr=""/>
          <p:cNvPicPr/>
          <p:nvPr/>
        </p:nvPicPr>
        <p:blipFill>
          <a:blip r:embed="rId3"/>
          <a:stretch/>
        </p:blipFill>
        <p:spPr>
          <a:xfrm>
            <a:off x="390600" y="1189080"/>
            <a:ext cx="82170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B405-40FC-4A14-8D06-6BEF6D8B2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19" name="Диаграмма 5" descr=""/>
          <p:cNvPicPr/>
          <p:nvPr/>
        </p:nvPicPr>
        <p:blipFill>
          <a:blip r:embed="rId3"/>
          <a:stretch/>
        </p:blipFill>
        <p:spPr>
          <a:xfrm>
            <a:off x="244440" y="1262160"/>
            <a:ext cx="86551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0E35-4098-49C6-9267-5A252EA75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Диаграмма 6" descr=""/>
          <p:cNvPicPr/>
          <p:nvPr/>
        </p:nvPicPr>
        <p:blipFill>
          <a:blip r:embed="rId3"/>
          <a:stretch/>
        </p:blipFill>
        <p:spPr>
          <a:xfrm>
            <a:off x="676440" y="1262160"/>
            <a:ext cx="79311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7F03-42FB-4CBE-90BC-BF5D546B2E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596880" y="1954080"/>
            <a:ext cx="8137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58920" y="1388160"/>
            <a:ext cx="8605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СНОВ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a6c"/>
                </a:solidFill>
                <a:latin typeface="Times New Roman"/>
                <a:ea typeface="Times New Roman"/>
              </a:rPr>
              <a:t>За результатами опитування, децентралізація влади в Україні має сприятливий ґрун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a6c"/>
                </a:solidFill>
                <a:latin typeface="Times New Roman"/>
                <a:ea typeface="Times New Roman"/>
              </a:rPr>
              <a:t>Водночас є певний брак розуміння окремих аспектів децентралізації, що свідчить про потребу в посиленні її інформаційної складової. Зокрема, це стосується питань оптимізації інфраструктури, а також можливостей працевлаштування службовців, вивільнених при укрупненні громад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a6c"/>
                </a:solidFill>
                <a:latin typeface="Times New Roman"/>
                <a:ea typeface="Times New Roman"/>
              </a:rPr>
              <a:t>Це дозволить пом</a:t>
            </a:r>
            <a:r>
              <a:rPr b="0" lang="uk-UA" sz="2600" spc="-1" strike="noStrike">
                <a:solidFill>
                  <a:srgbClr val="002a6c"/>
                </a:solidFill>
                <a:latin typeface="Arial"/>
                <a:ea typeface="Times New Roman"/>
              </a:rPr>
              <a:t>’</a:t>
            </a:r>
            <a:r>
              <a:rPr b="0" lang="uk-UA" sz="2600" spc="-1" strike="noStrike">
                <a:solidFill>
                  <a:srgbClr val="002a6c"/>
                </a:solidFill>
                <a:latin typeface="Times New Roman"/>
                <a:ea typeface="Times New Roman"/>
              </a:rPr>
              <a:t>якшити ризики суспільного невдоволення реформою в процесі децентралізації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4D0D-8A8F-4A62-9FFD-64DF38D34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3200" spc="-1" strike="noStrike">
                <a:solidFill>
                  <a:srgbClr val="002060"/>
                </a:solidFill>
                <a:latin typeface="Georgia"/>
              </a:rPr>
              <a:t>Результати всеукраїнського опитування громадян, </a:t>
            </a:r>
            <a:br>
              <a:rPr sz="3200"/>
            </a:br>
            <a:r>
              <a:rPr b="1" lang="uk-UA" sz="2600" spc="-1" strike="noStrike">
                <a:solidFill>
                  <a:srgbClr val="002060"/>
                </a:solidFill>
                <a:latin typeface="Georgia"/>
              </a:rPr>
              <a:t>проведеного в</a:t>
            </a:r>
            <a:r>
              <a:rPr b="1" i="1" lang="uk-UA" sz="2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uk-UA" sz="2600" spc="-1" strike="noStrike">
                <a:solidFill>
                  <a:srgbClr val="002060"/>
                </a:solidFill>
                <a:latin typeface="Georgia"/>
              </a:rPr>
              <a:t>листопаді 2014 року</a:t>
            </a:r>
            <a:br>
              <a:rPr sz="2600"/>
            </a:br>
            <a:br>
              <a:rPr sz="2600"/>
            </a:br>
            <a:r>
              <a:rPr b="1" lang="uk-UA" sz="2000" spc="-1" strike="noStrike">
                <a:solidFill>
                  <a:srgbClr val="002060"/>
                </a:solidFill>
                <a:latin typeface="Georgia"/>
              </a:rPr>
              <a:t>Фондом “Демократичні ініціативи ім. Ілька Кучеріва”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Georgia"/>
              </a:rPr>
              <a:t>у співпраці з фірмою «Юкрейніан соціолоджі сервіс»</a:t>
            </a:r>
            <a:br>
              <a:rPr sz="2000"/>
            </a:br>
            <a:br>
              <a:rPr sz="2000"/>
            </a:br>
            <a:r>
              <a:rPr b="1" i="1" lang="uk-UA" sz="2000" spc="-1" strike="noStrike">
                <a:solidFill>
                  <a:srgbClr val="002060"/>
                </a:solidFill>
                <a:latin typeface="Georgia"/>
              </a:rPr>
              <a:t>на замовлення А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7FA9-F38A-4CB1-A70B-80865472D3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3600" spc="-1" strike="noStrike">
                <a:solidFill>
                  <a:srgbClr val="1f497d"/>
                </a:solidFill>
                <a:latin typeface="Georgia"/>
                <a:ea typeface="Arial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B911-A192-44AE-8603-0EB10B2C7F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11280" y="2276640"/>
            <a:ext cx="777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53" name="Диаграмма 8" descr=""/>
          <p:cNvPicPr/>
          <p:nvPr/>
        </p:nvPicPr>
        <p:blipFill>
          <a:blip r:embed="rId3"/>
          <a:stretch/>
        </p:blipFill>
        <p:spPr>
          <a:xfrm>
            <a:off x="603360" y="1189080"/>
            <a:ext cx="76453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4E37-F8F8-4DB3-9CAB-C43923A02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842400" y="1789920"/>
            <a:ext cx="73936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Опитування провед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в 49 містах і 11 селищ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Опитано 1803 респонден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Окремо опитано 357 службовців ОМ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керівники - 63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a6c"/>
                </a:solidFill>
                <a:latin typeface="Times New Roman"/>
                <a:ea typeface="Verdana"/>
              </a:rPr>
              <a:t>рядові працівники - 37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26C0-6675-4DDD-BD52-95DFF4FD47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148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473040" y="2349360"/>
            <a:ext cx="8364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62" name="Диаграмма 8" descr=""/>
          <p:cNvPicPr/>
          <p:nvPr/>
        </p:nvPicPr>
        <p:blipFill>
          <a:blip r:embed="rId3"/>
          <a:stretch/>
        </p:blipFill>
        <p:spPr>
          <a:xfrm>
            <a:off x="749160" y="1122480"/>
            <a:ext cx="76456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53F6-3BC5-4760-B1D6-754C0769B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Диаграмма 7" descr=""/>
          <p:cNvPicPr/>
          <p:nvPr/>
        </p:nvPicPr>
        <p:blipFill>
          <a:blip r:embed="rId3"/>
          <a:stretch/>
        </p:blipFill>
        <p:spPr>
          <a:xfrm>
            <a:off x="749160" y="1047600"/>
            <a:ext cx="77914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430A-F2A2-4E72-8C4B-BC5C7CF03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1643040" y="260280"/>
            <a:ext cx="6048360" cy="65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D:\DISK WORK\LOGO\logoDialogue2013\dIALOGukr.jpg"/>
          <p:cNvPicPr/>
          <p:nvPr/>
        </p:nvPicPr>
        <p:blipFill>
          <a:blip r:embed="rId2"/>
          <a:stretch/>
        </p:blipFill>
        <p:spPr>
          <a:xfrm>
            <a:off x="468360" y="260280"/>
            <a:ext cx="835164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68360" y="1844640"/>
          <a:ext cx="8064360" cy="3720960"/>
        </p:xfrm>
        <a:graphic>
          <a:graphicData uri="http://schemas.openxmlformats.org/drawingml/2006/table">
            <a:tbl>
              <a:tblPr/>
              <a:tblGrid>
                <a:gridCol w="1617480"/>
                <a:gridCol w="1478160"/>
                <a:gridCol w="1293840"/>
                <a:gridCol w="1027080"/>
                <a:gridCol w="1208160"/>
                <a:gridCol w="143964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о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Міська/ селищна р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Район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Обл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Центр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Не дали відпові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Дошкільна осві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3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Шкільна  осві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7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роф.-тех.  осві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7"/>
          <p:cNvSpPr/>
          <p:nvPr/>
        </p:nvSpPr>
        <p:spPr>
          <a:xfrm>
            <a:off x="423360" y="1236600"/>
            <a:ext cx="81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Verdana"/>
              </a:rPr>
              <a:t>Бачення громадянами відповідальних за по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DFDB-221B-4CDF-9C2A-7794E61DE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68360" y="1844640"/>
          <a:ext cx="8280360" cy="4557600"/>
        </p:xfrm>
        <a:graphic>
          <a:graphicData uri="http://schemas.openxmlformats.org/drawingml/2006/table">
            <a:tbl>
              <a:tblPr/>
              <a:tblGrid>
                <a:gridCol w="1660320"/>
                <a:gridCol w="1744920"/>
                <a:gridCol w="1103040"/>
                <a:gridCol w="1052640"/>
                <a:gridCol w="1279440"/>
                <a:gridCol w="1440000"/>
              </a:tblGrid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о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Міська/  селищна р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Район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Обл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Центр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Не дали відпові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ервинна  медична  допомога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49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8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Вторинна  медична  допомога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Спеціалізована  мед. допомога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3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5"/>
          <p:cNvSpPr/>
          <p:nvPr/>
        </p:nvSpPr>
        <p:spPr>
          <a:xfrm>
            <a:off x="1085400" y="126936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Verdana"/>
              </a:rPr>
              <a:t>Бачення громадянами відповідальних за по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9B5D-A7E9-48A5-AB03-AC32EC110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D:\DISK WORK\LOGO\logoDialogue2013\dIALOGukr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468360" y="1916280"/>
          <a:ext cx="8136000" cy="4537080"/>
        </p:xfrm>
        <a:graphic>
          <a:graphicData uri="http://schemas.openxmlformats.org/drawingml/2006/table">
            <a:tbl>
              <a:tblPr/>
              <a:tblGrid>
                <a:gridCol w="1631880"/>
                <a:gridCol w="1712880"/>
                <a:gridCol w="1084320"/>
                <a:gridCol w="1035000"/>
                <a:gridCol w="1160640"/>
                <a:gridCol w="1511280"/>
              </a:tblGrid>
              <a:tr h="120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о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Міська/ селищна р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Район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Обл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Центр. в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Не відпов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Пожежна  охо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39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Охорона  поряд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4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Економ.  розви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37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2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Житл-ком. по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55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2a6c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7"/>
          <p:cNvSpPr/>
          <p:nvPr/>
        </p:nvSpPr>
        <p:spPr>
          <a:xfrm>
            <a:off x="719640" y="1269000"/>
            <a:ext cx="75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Times New Roman"/>
                <a:ea typeface="Verdana"/>
              </a:rPr>
              <a:t>Бачення громадянами відповідальних за по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7:14:02Z</dcterms:created>
  <dc:creator>Parkhomenko</dc:creator>
  <dc:description/>
  <dc:language>en-US</dc:language>
  <cp:lastModifiedBy>Parkhomenko</cp:lastModifiedBy>
  <cp:lastPrinted>2013-04-01T10:58:57Z</cp:lastPrinted>
  <dcterms:modified xsi:type="dcterms:W3CDTF">2015-04-28T11:05:51Z</dcterms:modified>
  <cp:revision>129</cp:revision>
  <dc:subject/>
  <dc:title>Місцеве самоврядування            міст України та його стан</dc:title>
</cp:coreProperties>
</file>