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85F-B103-4445-A65B-7264341E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9FF-4AA8-4001-9988-F1FE3F7B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085-DD0A-4621-84EC-2CAD92E9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6C2-9E1C-45DA-A1EC-612856E6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2EA-C860-468E-94B2-57F268C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554-0EE4-4B45-A750-733FF005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B72-7A94-45D3-A659-2B2455F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8E3-0AD0-4B68-A4CB-0DCB5A7A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982-BBEC-44E9-8078-D69AB9DB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BF9-6369-4AD1-AEEB-C95FE20B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F1C-7E0E-423F-B815-2B32A59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472-5DBA-4AE7-AF16-BCCFFBDC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09F-C837-4F64-B8AD-59DD5EC54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аргарита Юрченк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иректор Центру комунікаці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а зв'язків з громадськіст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  <a:ea typeface="Arial"/>
              </a:rPr>
              <a:t>28-29 квітня 2015 року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ий семінар з організації робо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фісів рефор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1989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ажливим чинником успіх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реалізації завдання з формування спроможних громад та здійснення інших реформ є розуміння та підтримка громадськості. Отже, комунікаційна діяльність Офісу реформ має бути активною та спрямованою на інформування всіх цільових аудиторій і, зокрема широких кіл громадськості, про мету та процеси впровадження ре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іоритетне завдання - забезпечити максимальну відкритість та прозорість роботи Офісів, використовуючи різноманітні інструменти поширення інформа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348000" y="1052280"/>
            <a:ext cx="54705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2563560"/>
            <a:ext cx="87138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Що треба зро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початкову прес-конференцію для місцевих та регіональних ЗМ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  - широке розповсюдження інформації та формування групи зацікавлених журналіст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егулярно інформувати громадськість через місцеві ЗМІ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в т.ч. вже сформовану групу журналістів)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 діяльність Офісу та хід реформ в регіоні, поширюючи прес-анонси, прес-релізи, інформаційні меседжі тощ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одити брифінги керівника Офісу для місцевих ЗМ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лагодити співпрацю з прес-службами облдержадміністрації та місцевих ра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через їх веб-сайти поширюватиметься відповідна інформаці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інформувати Асоціацію міст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66068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76092"/>
                </a:solidFill>
                <a:latin typeface="Calibri"/>
                <a:ea typeface="Arial"/>
              </a:rPr>
              <a:t>Залучення місцевих та регіональних ЗМ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3348000" y="1052640"/>
            <a:ext cx="547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8920" y="256500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о-просвітницька робота з просування реформи місцевого самоврядування та децентралізації влади – важливий напрям у діяльності Асоціації міст України. Мета - створити сприятливе середовище та громадську підтримку реалізації реформ через поширення стратегічних меседжів для різних цільових аудиторій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Система інформаційних засобів АМУ: веб-сайт, електронні та друковані видання, телевізійні продукти, інтерв’ю та коментарі для ЗМІ, адресні розсил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Як побудувати співпрац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  <a:ea typeface="Arial"/>
              </a:rPr>
              <a:t>	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  <a:ea typeface="Arial"/>
              </a:rPr>
              <a:t>Офіси реформ маю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изначити відповідальну особу від Офісу реформ з питань взаємодії з А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остійно інформувати АМУ про свою діяльність та хід реформ в регіон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ілитися досвідом вирішення проблемних пита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173340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з Асоціацією міст У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348000" y="1052640"/>
            <a:ext cx="547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  <a:ea typeface="Arial"/>
              </a:rPr>
              <a:t>Центр комунікацій та зв’язків з громадськістю А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буде готувати та поширювати серед Офісів реформ інформаційний дайджест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щотижнев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ублікуватиме інформацію на сайті АМУ </a:t>
            </a:r>
            <a:r>
              <a:rPr b="1" lang="en-US" sz="2000" spc="-1" strike="noStrike">
                <a:solidFill>
                  <a:srgbClr val="376092"/>
                </a:solidFill>
                <a:latin typeface="Calibri"/>
                <a:ea typeface="Arial"/>
              </a:rPr>
              <a:t>www.auc.org.u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та у Віснику А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ажливі і значущі події включатимуться в щотижневу розсилку для ЗМ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едовий досвід формування спроможних громад буде висвітлюватися у ТБ-проекті, який реалізує АМУ в рамках Проекту «ДІАЛОГ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348000" y="1052280"/>
            <a:ext cx="54705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8920" y="2492280"/>
            <a:ext cx="8713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  <a:ea typeface="Arial"/>
              </a:rPr>
              <a:t>Контактна особа в АМУ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енеджер з комунікацій Леся Бондаренк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тел. (044) 486 28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а адреса: L_mishenina@auc.org.u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348000" y="1052280"/>
            <a:ext cx="54705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зяк Ольга Іванівна</dc:creator>
  <dc:description/>
  <dc:language>en-US</dc:language>
  <cp:lastModifiedBy>Юрченко Маргарита Михайлівна</cp:lastModifiedBy>
  <dcterms:modified xsi:type="dcterms:W3CDTF">2015-04-28T07:20:05Z</dcterms:modified>
  <cp:revision>124</cp:revision>
  <dc:subject/>
  <dc:title>Стан виконання місцевих бюджетів у 2014 році та пропозиції Асоціації міст України щодо бюджетної децентралізації на 2015 рік</dc:title>
</cp:coreProperties>
</file>