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166-F75C-4077-A090-BE71B190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690-416C-4B98-8757-ECDAE567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58A-811C-45E9-9C85-CEF68DFB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C1B-5515-43D3-A097-C1EFE030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656-DEB8-4F33-8755-3D1AE0BC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64D-F08F-4D02-BFAE-F6131EF5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22D-1CCD-4F50-BBEE-9448FFAD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FD2-DB18-41FE-B863-BAB379F0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A50-38A2-4D71-A343-972EA922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B43-DBE6-48A0-8A5D-98C4CBDC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B5E-02B2-4026-9344-A3FF3971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E7C-2840-4F2C-8BD3-7C897961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FE2B-A3E4-445B-B42B-D006FBA51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аргарита Юрченк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иректор Центру комунікаці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а зв'язків з громадськіст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  <a:ea typeface="Arial"/>
              </a:rPr>
              <a:t>28-29 квітня 2015 року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Інформаційний семінар з організації робо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фісів рефор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198900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ажливим чинником успіху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реалізації завдання з формування спроможних громад та здійснення інших реформ є розуміння та підтримка громадськості. Отже, комунікаційна діяльність Офісу реформ має бути активною та спрямованою на інформування всіх цільових аудиторій і, зокрема широких кіл громадськості, про мету та процеси впровадження ре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іоритетне завдання - забезпечити максимальну відкритість та прозорість роботи Офісів, використовуючи різноманітні інструменти поширення інформац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348000" y="1052280"/>
            <a:ext cx="54705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2563560"/>
            <a:ext cx="87138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Що треба зро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початкову прес-конференцію для місцевих та регіональних ЗМ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езультат  - широке розповсюдження інформації та формування групи зацікавлених журналіст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егулярно інформувати громадськість через місцеві ЗМІ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в т.ч. вже сформовану групу журналістів)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 діяльність Офісу та хід реформ в регіоні, поширюючи прес-анонси, прес-релізи, інформаційні меседжі тощ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водити брифінги керівника Офісу для місцевих ЗМ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налагодити співпрацю з прес-службами облдержадміністрації та місцевих ра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через їх веб-сайти поширюватиметься відповідна інформаці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інформувати Асоціацію міст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66068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76092"/>
                </a:solidFill>
                <a:latin typeface="Calibri"/>
                <a:ea typeface="Arial"/>
              </a:rPr>
              <a:t>Залучення місцевих та регіональних ЗМ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3348000" y="1052640"/>
            <a:ext cx="547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8920" y="256500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Інформаційно-просвітницька робота з просування реформи місцевого самоврядування та децентралізації влади – важливий напрям у діяльності Асоціації міст України. Мета - створити сприятливе середовище та громадську підтримку реалізації реформ через поширення стратегічних меседжів для різних цільових аудиторій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Система інформаційних засобів АМУ: веб-сайт, електронні та друковані видання, телевізійні продукти, інтерв’ю та коментарі для ЗМІ, адресні розсил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Як побудувати співпрацю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  <a:ea typeface="Arial"/>
              </a:rPr>
              <a:t>	</a:t>
            </a:r>
            <a:r>
              <a:rPr b="1" lang="uk-UA" sz="2000" spc="-1" strike="noStrike">
                <a:solidFill>
                  <a:srgbClr val="376092"/>
                </a:solidFill>
                <a:latin typeface="Calibri"/>
                <a:ea typeface="Arial"/>
              </a:rPr>
              <a:t>Офіси реформ маю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изначити відповідальну особу від Офісу реформ з питань взаємодії з А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остійно інформувати АМУ про свою діяльність та хід реформ в регіон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ілитися досвідом вирішення проблемних пита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173340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з Асоціацією міст Украї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3348000" y="1052640"/>
            <a:ext cx="547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213372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76092"/>
                </a:solidFill>
                <a:latin typeface="Calibri"/>
                <a:ea typeface="Arial"/>
              </a:rPr>
              <a:t>Центр комунікацій та зв’язків з громадськістю А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буде готувати та поширювати серед Офісів реформ інформаційний дайджест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щотижнево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ублікуватиме інформацію на сайті АМУ </a:t>
            </a:r>
            <a:r>
              <a:rPr b="1" lang="en-US" sz="2000" spc="-1" strike="noStrike">
                <a:solidFill>
                  <a:srgbClr val="376092"/>
                </a:solidFill>
                <a:latin typeface="Calibri"/>
                <a:ea typeface="Arial"/>
              </a:rPr>
              <a:t>www.auc.org.u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та у Віснику А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ажливі і значущі події включатимуться в щотижневу розсилку для ЗМ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едовий досвід формування спроможних громад буде висвітлюватися у ТБ-проекті, який реалізує АМУ в рамках Проекту «ДІАЛОГ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348000" y="1052280"/>
            <a:ext cx="54705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mon1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8920" y="2492280"/>
            <a:ext cx="8713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  <a:ea typeface="Arial"/>
              </a:rPr>
              <a:t>Контактна особа в АМУ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менеджер з комунікацій Леся Бондаренк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тел. (044) 486 28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а адреса: L_mishenina@auc.org.u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348000" y="1052280"/>
            <a:ext cx="54705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  <a:ea typeface="Arial"/>
              </a:rPr>
              <a:t>Комунікації та забезпечення підтримки рефо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зяк Ольга Іванівна</dc:creator>
  <dc:description/>
  <dc:language>en-US</dc:language>
  <cp:lastModifiedBy>Юрченко Маргарита Михайлівна</cp:lastModifiedBy>
  <dcterms:modified xsi:type="dcterms:W3CDTF">2015-04-28T07:20:05Z</dcterms:modified>
  <cp:revision>124</cp:revision>
  <dc:subject/>
  <dc:title>Стан виконання місцевих бюджетів у 2014 році та пропозиції Асоціації міст України щодо бюджетної децентралізації на 2015 рік</dc:title>
</cp:coreProperties>
</file>